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260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57052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468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60260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57052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260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7052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468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260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7052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0260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57052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3468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60260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57052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260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7052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3468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260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7052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260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7052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3468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0260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7052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260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7052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3468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260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7052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260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7052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3468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260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7052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260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7052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3468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260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7052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260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7052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3468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260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7052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260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7052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3468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260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7052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260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7052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3468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260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7052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34680" y="5648760"/>
            <a:ext cx="117349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7760" y="21459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3468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7760" y="5648760"/>
            <a:ext cx="572652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260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70520" y="21459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3468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260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70520" y="5648760"/>
            <a:ext cx="3778560" cy="31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520" y="2476440"/>
            <a:ext cx="10947240" cy="271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520" y="5206680"/>
            <a:ext cx="109472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-88920" algn="r">
              <a:buClr>
                <a:srgbClr val="2b2922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 marL="192960" indent="-74160" algn="r">
              <a:buClr>
                <a:srgbClr val="2b2922"/>
              </a:buClr>
              <a:buFont typeface="Copperplat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 marL="297000" indent="-59400" algn="r">
              <a:buClr>
                <a:srgbClr val="2b2922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3" marL="415800" indent="-59400" algn="r">
              <a:buClr>
                <a:srgbClr val="2b2922"/>
              </a:buClr>
              <a:buFont typeface="Copperplat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4" marL="534600" indent="-59400" algn="r">
              <a:buClr>
                <a:srgbClr val="2b2922"/>
              </a:buClr>
              <a:buFont typeface="Copperplat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5" marL="534600" indent="-59400" algn="r">
              <a:buClr>
                <a:srgbClr val="2b2922"/>
              </a:buClr>
              <a:buFont typeface="Copperplat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6" marL="534600" indent="-59400" algn="r">
              <a:buClr>
                <a:srgbClr val="2b2922"/>
              </a:buClr>
              <a:buFont typeface="Copperplat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4654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835200" indent="-46512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25316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67112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34680" y="888480"/>
            <a:ext cx="11734920" cy="797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112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1" marL="737640" indent="-41076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2" marL="1106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3" marL="1475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4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5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6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112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1" marL="737640" indent="-41076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106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3" marL="1475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4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5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6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242200" y="2145960"/>
            <a:ext cx="412776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3660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6040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9064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2088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35040" y="2145960"/>
            <a:ext cx="59688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728640" indent="-4057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093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45764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35040" y="2145960"/>
            <a:ext cx="59688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728640" indent="-4057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093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45764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5040" y="2463480"/>
            <a:ext cx="6006960" cy="271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65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35040" y="5206680"/>
            <a:ext cx="600696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-88920">
              <a:buClr>
                <a:srgbClr val="2b2922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 marL="192960" indent="-74160">
              <a:buClr>
                <a:srgbClr val="2b2922"/>
              </a:buClr>
              <a:buFont typeface="Copperplat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 marL="297000" indent="-59400">
              <a:buClr>
                <a:srgbClr val="2b2922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3" marL="415800" indent="-59400">
              <a:buClr>
                <a:srgbClr val="2b2922"/>
              </a:buClr>
              <a:buFont typeface="Copperplat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4" marL="534600" indent="-59400">
              <a:buClr>
                <a:srgbClr val="2b2922"/>
              </a:buClr>
              <a:buFont typeface="Copperplat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5" marL="534600" indent="-59400">
              <a:buClr>
                <a:srgbClr val="2b2922"/>
              </a:buClr>
              <a:buFont typeface="Copperplat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6" marL="534600" indent="-59400">
              <a:buClr>
                <a:srgbClr val="2b2922"/>
              </a:buClr>
              <a:buFont typeface="Copperplat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34680" y="7721640"/>
            <a:ext cx="1173492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28520" y="2945880"/>
            <a:ext cx="10947240" cy="386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llMkm8pcVU" TargetMode="External"/><Relationship Id="rId2" Type="http://schemas.openxmlformats.org/officeDocument/2006/relationships/hyperlink" Target="http://www.dhimmitude.org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28520" y="2476440"/>
            <a:ext cx="10947240" cy="271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Aharoni"/>
                <a:ea typeface="Aharoni"/>
              </a:rPr>
              <a:t>The Byzantines –  Exploration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28520" y="5206680"/>
            <a:ext cx="109472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476-1291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11734920" cy="224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Aharoni"/>
                <a:ea typeface="Aharoni"/>
              </a:rPr>
              <a:t>Crusades</a:t>
            </a:r>
            <a:br>
              <a:rPr sz="8000"/>
            </a:br>
            <a:r>
              <a:rPr b="0" lang="en-US" sz="3100" spc="-1" strike="noStrike">
                <a:solidFill>
                  <a:srgbClr val="2b2922"/>
                </a:solidFill>
                <a:latin typeface="Cochin"/>
                <a:ea typeface="Cochin"/>
              </a:rPr>
              <a:t>pp. 219-224</a:t>
            </a:r>
            <a:endParaRPr b="0" lang="en-US" sz="31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34680" y="243792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Aharoni"/>
                <a:ea typeface="Aharoni"/>
              </a:rPr>
              <a:t>Rescue of the Holy Land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 marL="888840" indent="-495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Aharoni"/>
                <a:ea typeface="Aharoni"/>
              </a:rPr>
              <a:t>The Cal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 marL="888840" indent="-495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Aharoni"/>
                <a:ea typeface="Aharoni"/>
              </a:rPr>
              <a:t>The Crusaders: Their Motives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 marL="888840" indent="-495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Aharoni"/>
                <a:ea typeface="Aharoni"/>
              </a:rPr>
              <a:t>The Campaigns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 marL="1333440" indent="-49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Aharoni"/>
                <a:ea typeface="Aharoni"/>
              </a:rPr>
              <a:t>The First Crusade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 marL="1333440" indent="-49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Aharoni"/>
                <a:ea typeface="Aharoni"/>
              </a:rPr>
              <a:t>The King’s Crusade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 marL="1333440" indent="-49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Aharoni"/>
                <a:ea typeface="Aharoni"/>
              </a:rPr>
              <a:t>The “Diverted” Crusade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 marL="1333440" indent="-49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Aharoni"/>
                <a:ea typeface="Aharoni"/>
              </a:rPr>
              <a:t>The Later Crusades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 marL="888840" indent="-495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Aharoni"/>
                <a:ea typeface="Aharoni"/>
              </a:rPr>
              <a:t>The Consequences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34680" y="151920"/>
            <a:ext cx="11734920" cy="2514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Copperplate Light"/>
                <a:hlinkClick r:id="rId1"/>
              </a:rPr>
              <a:t>https://www.youtube.com/watch?v=mllMkm8pcVU</a:t>
            </a:r>
            <a:endParaRPr b="0" lang="en-US" sz="6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Copperplate"/>
                <a:hlinkClick r:id="rId2"/>
              </a:rPr>
              <a:t>http://www.dhimmitude.org/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34680" y="380520"/>
            <a:ext cx="11734920" cy="224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Aharoni"/>
                <a:ea typeface="Aharoni"/>
              </a:rPr>
              <a:t>The Byzantines</a:t>
            </a:r>
            <a:br>
              <a:rPr sz="8000"/>
            </a:br>
            <a:r>
              <a:rPr b="0" lang="en-US" sz="3100" spc="-1" strike="noStrike">
                <a:solidFill>
                  <a:srgbClr val="2b2922"/>
                </a:solidFill>
                <a:latin typeface="Cochin"/>
                <a:ea typeface="Cochin"/>
              </a:rPr>
              <a:t>pp. 127-133</a:t>
            </a:r>
            <a:br>
              <a:rPr sz="3100"/>
            </a:br>
            <a:endParaRPr b="0" lang="en-US" sz="31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The Rise of “New Rome”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The Reign of Justinian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Eastern and Western Churches Separate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The Empire Under Siege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The Fall of Constantinople, May 30, 1453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Byzantine Civilization Contribution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Content Placeholder 3" descr="byzantine-architecture-hagia-sophia-exterior.jpg"/>
          <p:cNvPicPr/>
          <p:nvPr/>
        </p:nvPicPr>
        <p:blipFill>
          <a:blip r:embed="rId1"/>
          <a:stretch/>
        </p:blipFill>
        <p:spPr>
          <a:xfrm>
            <a:off x="0" y="304920"/>
            <a:ext cx="13004640" cy="885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pic>
        <p:nvPicPr>
          <p:cNvPr id="456" name="Content Placeholder 3" descr="hagia drawing.jpg"/>
          <p:cNvPicPr/>
          <p:nvPr/>
        </p:nvPicPr>
        <p:blipFill>
          <a:blip r:embed="rId1"/>
          <a:stretch/>
        </p:blipFill>
        <p:spPr>
          <a:xfrm>
            <a:off x="0" y="152280"/>
            <a:ext cx="12985920" cy="933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pic>
        <p:nvPicPr>
          <p:cNvPr id="458" name="Content Placeholder 3" descr="Balkan_topo_en.jpg"/>
          <p:cNvPicPr/>
          <p:nvPr/>
        </p:nvPicPr>
        <p:blipFill>
          <a:blip r:embed="rId1"/>
          <a:stretch/>
        </p:blipFill>
        <p:spPr>
          <a:xfrm>
            <a:off x="1179360" y="0"/>
            <a:ext cx="10580760" cy="966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76320"/>
            <a:ext cx="124207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Agency FB"/>
              </a:rPr>
              <a:t>Abstract Mosaic- Mosquée de Paris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pic>
        <p:nvPicPr>
          <p:cNvPr id="460" name="Content Placeholder 4" descr="Mosaic_-_Mosquée_de_Paris.jpg"/>
          <p:cNvPicPr/>
          <p:nvPr/>
        </p:nvPicPr>
        <p:blipFill>
          <a:blip r:embed="rId1"/>
          <a:stretch/>
        </p:blipFill>
        <p:spPr>
          <a:xfrm>
            <a:off x="939960" y="1676520"/>
            <a:ext cx="11048760" cy="78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101160"/>
            <a:ext cx="1242072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Agency FB"/>
              </a:rPr>
              <a:t>Abstract Mosaics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pic>
        <p:nvPicPr>
          <p:cNvPr id="462" name="Content Placeholder 4" descr="Mosaic_-_Mosquée_de_Paris.jpg"/>
          <p:cNvPicPr/>
          <p:nvPr/>
        </p:nvPicPr>
        <p:blipFill>
          <a:blip r:embed="rId1"/>
          <a:stretch/>
        </p:blipFill>
        <p:spPr>
          <a:xfrm>
            <a:off x="6273720" y="231840"/>
            <a:ext cx="6578640" cy="9445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Islamic Abstract mosaic.jpg"/>
          <p:cNvPicPr/>
          <p:nvPr/>
        </p:nvPicPr>
        <p:blipFill>
          <a:blip r:embed="rId2"/>
          <a:stretch/>
        </p:blipFill>
        <p:spPr>
          <a:xfrm>
            <a:off x="330120" y="1676520"/>
            <a:ext cx="5753160" cy="792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4680" y="380520"/>
            <a:ext cx="11734920" cy="224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Aharoni"/>
                <a:ea typeface="Aharoni"/>
              </a:rPr>
              <a:t>Feudalism</a:t>
            </a:r>
            <a:br>
              <a:rPr sz="8000"/>
            </a:br>
            <a:r>
              <a:rPr b="0" lang="en-US" sz="3100" spc="-1" strike="noStrike">
                <a:solidFill>
                  <a:srgbClr val="2b2922"/>
                </a:solidFill>
                <a:latin typeface="Cochin"/>
                <a:ea typeface="Cochin"/>
              </a:rPr>
              <a:t>pp. 192-198</a:t>
            </a:r>
            <a:br>
              <a:rPr sz="3100"/>
            </a:br>
            <a:endParaRPr b="0" lang="en-US" sz="31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34680" y="2361960"/>
            <a:ext cx="11734920" cy="648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Developmen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Relationships and Obligation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The Life of the Nobility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1" marL="888840" indent="-49500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The Castle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1" marL="888840" indent="-49500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Knighthood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1" marL="888840" indent="-49500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The Code of Chivalry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1" marL="888840" indent="-49500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Tournaments and Joust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Aharoni"/>
                <a:ea typeface="Aharoni"/>
              </a:rPr>
              <a:t>The Manor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4680" y="380520"/>
            <a:ext cx="11734920" cy="224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Aharoni"/>
                <a:ea typeface="Aharoni"/>
              </a:rPr>
              <a:t>Power of the Church</a:t>
            </a:r>
            <a:br>
              <a:rPr sz="8000"/>
            </a:br>
            <a:r>
              <a:rPr b="0" lang="en-US" sz="3100" spc="-1" strike="noStrike">
                <a:solidFill>
                  <a:srgbClr val="2b2922"/>
                </a:solidFill>
                <a:latin typeface="Cochin"/>
                <a:ea typeface="Cochin"/>
              </a:rPr>
              <a:t>pp. 179-184</a:t>
            </a:r>
            <a:br>
              <a:rPr sz="3100"/>
            </a:br>
            <a:endParaRPr b="0" lang="en-US" sz="31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Aharoni"/>
                <a:ea typeface="Aharoni"/>
              </a:rPr>
              <a:t>“</a:t>
            </a:r>
            <a:r>
              <a:rPr b="0" lang="en-US" sz="4400" spc="-1" strike="noStrike">
                <a:solidFill>
                  <a:srgbClr val="2b2922"/>
                </a:solidFill>
                <a:latin typeface="Aharoni"/>
                <a:ea typeface="Aharoni"/>
              </a:rPr>
              <a:t>Catholic”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Aharoni"/>
                <a:ea typeface="Aharoni"/>
              </a:rPr>
              <a:t>The Head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Aharoni"/>
                <a:ea typeface="Aharoni"/>
              </a:rPr>
              <a:t>Teachings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Aharoni"/>
                <a:ea typeface="Aharoni"/>
              </a:rPr>
              <a:t>Warriors of the Church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ebecca Lopez</cp:lastModifiedBy>
  <dcterms:modified xsi:type="dcterms:W3CDTF">2015-12-15T02:50:10Z</dcterms:modified>
  <cp:revision>14</cp:revision>
  <dc:subject/>
  <dc:title>The Byzantines - Exploration</dc:title>
</cp:coreProperties>
</file>